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FF8-73B4-4F04-A10A-A3158162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9EA-1CB6-4153-9EBF-734D6373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5F3-7431-4D8A-BC4D-DBEE0D4A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AB8-CF26-470B-9EAD-0B4C4CC0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6DD6-9732-46BA-8F3D-F6CB11C6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FC07-628B-4D2E-8C17-B602E785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4416-5A23-4DB1-84B8-44F59B5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6775-66E9-45D0-ABB7-3280FBCA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4977-1731-4200-A8B4-11F2BD96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8EEB-1FEC-49AD-9A4C-F114B4EE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685-FAC9-46FC-94D5-EEBD09B7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841-FAE3-4D6A-9B98-5A3F77C7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3937-99F8-4779-B377-60CF6499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F034-8589-43E9-B950-1F835FE1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CE09-3C94-4EF2-86B0-3FA07854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5CC4-381E-4663-88AC-F0748AA1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6BD8-30C1-44E6-93F2-13D1EC92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329-7D1B-4273-8505-1A3E38D8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42D-EC4B-4C7E-8ECD-3E8D9FB9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0E3-7456-43DE-AB3D-0E1F4ADA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189-DC92-4477-B54A-B06290B7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BB6-C3E2-4206-8A8E-D3432C6D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695-6169-4231-AD24-AC136B4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D1E-0813-4D5E-80D0-FDE9EFC5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3FE7-B155-468B-924B-1BFB523A71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E187-26A7-40FF-992F-A1C14D67C95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F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u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br>
              <a:rPr sz="8000"/>
            </a:b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W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e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n P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r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Crook and Flail"/>
          <p:cNvPicPr/>
          <p:nvPr/>
        </p:nvPicPr>
        <p:blipFill>
          <a:blip r:embed="rId1"/>
          <a:stretch/>
        </p:blipFill>
        <p:spPr>
          <a:xfrm>
            <a:off x="838080" y="2514600"/>
            <a:ext cx="640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W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m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e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n P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r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Curlz MT"/>
              </a:rPr>
              <a:t>Hatshepsut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Curlz MT"/>
              </a:rPr>
              <a:t>Cleopatr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Hatshepsu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386480" cy="449712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atshepsut was an 18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dynasty pharaoh w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as the daughter of Thutmose I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When Thutmose I died, his son, Thutmose 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cceeded him and, as was the custom, 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arried his stepsister, Hatshepsut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hen Thutmose II died, Hatshepsut  becam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utmose III’s regent and eventually appoint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rself pharao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eopatr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was not of true Egyptian lineage. She was descended from Macedonia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became pharaoh when she was 17 years old and ruled with her father, and then with her younger brother, Ptolemy XII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was called “Queen of the Nile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commited suicide in 30 B.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Pop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800000"/>
                </a:solidFill>
                <a:latin typeface="Arial"/>
              </a:rPr>
              <a:t>Who was Hatshepsut?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How many</a:t>
            </a: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dynasties were ther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What were the gaps of time in between the kingdoms lik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Who did the pharaohs turn to when they needed advic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9:15Z</dcterms:created>
  <dc:creator>Default</dc:creator>
  <dc:description/>
  <dc:language>en-US</dc:language>
  <cp:lastModifiedBy>Taylor O'Brien</cp:lastModifiedBy>
  <dcterms:modified xsi:type="dcterms:W3CDTF">2009-01-14T21:02:33Z</dcterms:modified>
  <cp:revision>9</cp:revision>
  <dc:subject/>
  <dc:title>Egyptian Pharaohs</dc:title>
</cp:coreProperties>
</file>